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C523-5130-4668-890E-84064189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01E-0985-474D-A9B3-DA476E85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144-B8E3-473E-A2D4-83F0206E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10D-CFF2-4726-BB3C-E8958EE4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FBDE-EAB7-4748-8F2B-BF313736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AA5B-2BA7-4DB2-BFCC-50057A72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449C-6367-4ED6-A34E-B5CE1B57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1321-927B-4410-AC05-A8348756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CE21-020D-4E22-9379-524D8BBE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DFE3-2501-4033-9D74-4B4900E3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B690-0F03-4772-B75F-9FCC91E9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8F6-72A5-4780-8F8E-78C755D5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6667-7514-4340-8177-92CE8AA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1722-9E1C-4560-804C-25337588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8B83-5CC5-45DC-9CA2-7A51E516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8B04-D64B-4503-95A5-6AE25DBF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A32C-5E3F-47C2-8E54-7DA493CE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3A4-278E-4E28-B473-BA04308A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EA7-D512-4F20-804F-BBBB975B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79A-1D7F-410B-AAE9-803D5F97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1B74-D05A-4A08-B790-407375FB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1A6-2AB3-45B0-A268-38781688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A4F4-C560-4CF9-9435-D35ECE1B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8D5-D000-4A38-965B-4085671F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2AAA-1072-464E-8998-DEDD8CF91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A73B-732E-4394-B27E-4F38D7D1D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ventions of the Renaiss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notes as  you view the sli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en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ses were used for more than just eyeglass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ileo used lenses to make an astronomical telescope to look at the stars and planets in 160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aac Newton made the first reflecting telescope in 1668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0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495680" cy="3305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60684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Muske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usket was the first usable rifle that soldiers could carry into batt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developed in Spain in the 1500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could fire a metal ball that could seriously kill or hurt some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muskets were very large weighing 40 pounds and being over 6 feet lo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very hard to u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0" r="0" b="23172"/>
          <a:stretch/>
        </p:blipFill>
        <p:spPr>
          <a:xfrm>
            <a:off x="1295280" y="457200"/>
            <a:ext cx="678204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Rudd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vention of the rudder in the 1200’s greatly increased the control over steering a shi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56200" y="2022480"/>
            <a:ext cx="3809880" cy="2860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292640" cy="63500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02112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Flush Toile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ush toilet, or water closet as it was called dates back to 1589 when it was invented by Sir John Haring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ington invented a valve that when pulled would release water from a water closet. Sir John recommended flushing the toilet once or twice a day, although with our modern technology, we know that is probably not sufficient. (Rumor has it that, in Robin Hood's day, King Arthur - angry with how his brother ruled the country while the King was gone, named the toilet, 'the john' - aka as 'the jon' to you folks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930760" cy="4038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267080" y="1143000"/>
            <a:ext cx="35658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dding Mach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rench scientist, Blaise Pascal has been credited with inventing the very first digital calculator. In 1642, the 18-year-old Pascal, the son of a French tax collector, invented his numerical wheel calculator called the Pascaline, to help his father count tax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5867280" cy="2532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6019560" cy="221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ock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ldest surviving mechanical clock were made in the 1300’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alian scientist Galileo discovered the pendul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made for better time keep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132520" y="2128680"/>
            <a:ext cx="3809880" cy="3748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rmomet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ermometer was invented by Galileo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1593 which, for the first time, allowed temperature variations to be measured. In 1714, Gabriel Fahrenheit invented the first mercury thermometer, the modern thermom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ometers measure temperature, by using materials that change in some way when they are heated or cool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54068" t="0" r="0" b="0"/>
          <a:stretch/>
        </p:blipFill>
        <p:spPr>
          <a:xfrm>
            <a:off x="3048120" y="914400"/>
            <a:ext cx="294480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ubma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ubmarine was invented in 1624 by a man named Cornelius van Drebb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onardo da Vinci drew out the basic concept of a submarine over one hundred years befo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ebbel, a Dutch inventor and engineer employed by the British navy constructed a leather- covered rowboat from which oars protruded through watertight se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ubbel's ship could stay underwater for a few hours, but it only went about fifteen feet under the surfa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0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5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0" r="0" b="57798"/>
          <a:stretch/>
        </p:blipFill>
        <p:spPr>
          <a:xfrm>
            <a:off x="533520" y="380880"/>
            <a:ext cx="8153280" cy="4719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Match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- our worst enemy, our best friend - was difficult to create until Robert Boyle invented the match in 168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fire could be made by rubbing sticks together or by striking flint to steel, this was a time consuming process. Boyle discovered that when phosphorus and sulfur were rubbed together, they would burst into fl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convenient, Boyle's matches were not very safe, because sometimes they accidentally went up in flames while in a pocket. (Warm surprise!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some improvements and a little fine tuning, this invention led to your modern safety match many years lat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52560" y="1519200"/>
            <a:ext cx="36324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ater clocks and hourglas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clocks and hourglasses were widely using in the 1500’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57760" y="1946160"/>
            <a:ext cx="27576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Watch (portable timepiece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rtable watch was invented by German Peter Henlein in 15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reated his watch to be spring powered making it much small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atch was a pocket watch. The wrist watch didn’t come into widespread use until the 1800’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00600" y="2971800"/>
            <a:ext cx="3898800" cy="3251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530880" cy="4610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int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nese were the first to invent printing in 86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mid-1400’s, Johan Gutenberg of Germany invented a printing press using moveable ty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books could be printed with greater speed and less eff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utenberg Bible is considered one of the first books ever prin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584520" cy="4316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4444920" cy="553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yeglas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glasses were invented in the 1300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he invention of the printing press in the 1400’s, the demand for eyeglasses increa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r-sighted glasses (for reading) were developed fir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ter on near-sightedness was able to be correc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4826160" cy="312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365640"/>
            <a:ext cx="3251160" cy="307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6:02:38Z</dcterms:created>
  <dc:creator>Madison Middle School</dc:creator>
  <dc:description/>
  <dc:language>en-US</dc:language>
  <cp:lastModifiedBy>San Diego City Schools</cp:lastModifiedBy>
  <dcterms:modified xsi:type="dcterms:W3CDTF">2012-04-17T14:23:35Z</dcterms:modified>
  <cp:revision>28</cp:revision>
  <dc:subject/>
  <dc:title>Inventions of the Renaissance</dc:title>
</cp:coreProperties>
</file>